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A8E-C490-4E70-A16D-007C2656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5BA-5813-4FF8-A406-EEF01963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E36-8466-4D57-AFB3-02CB61F4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CC9-9172-48F2-B34F-BA723B10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EF5E-DF01-4963-B849-61294F76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59E7-4ED0-4D46-B642-8710F05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E2E-D83E-4CFC-B54B-7A0F8F8B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37AC-FCD4-4263-A412-1677315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04E5-052B-47BB-BE39-D28A087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634-5742-4B69-9B1A-1F73F95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F89-68AD-46D6-B972-68D076E6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7CC-9032-44D8-9A6D-F28858C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8C88-63A2-4FA2-836F-1BE545B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FC1E-986E-43BF-9C20-82E86E3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288F-C18E-43F3-A7F9-270ED55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D3C2-4560-4C27-A268-2517154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5AFC-03A0-4EF9-A794-ECDEBA67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7B4-56FC-4A38-B218-130050B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DA2-C3F4-453F-89E7-44082A4F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002-1D50-49B2-B9FA-24B949B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089-D39B-40FA-8F32-D7DF725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DD5-8481-46CA-94C3-A1A5FC63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B11-B720-408A-B45C-1595C8A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0A1-1299-412A-B5D3-0271EF1D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F5D9-7276-449F-B1C1-A9D63FC653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EBA4-047C-4F7C-9574-86F8E31C25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25360" y="1044720"/>
            <a:ext cx="95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Psychic Cicada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59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107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532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780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58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214020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4040" y="2819520"/>
            <a:ext cx="240192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562720" y="2819520"/>
            <a:ext cx="3047760" cy="2460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304920"/>
            <a:ext cx="58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cada is a large-bodied, dark-colored, flying insect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 long, transparent wings and large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616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232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760" y="164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024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1520" y="1676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40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24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36147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8280" y="0"/>
            <a:ext cx="74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 make a shrill, buzzing call by vib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drum-like membranes (called tymbals or tympa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ing hollow chambers on the abdomen using musc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usually do this while perching high up in tre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4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861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61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724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53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37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244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16000" y="2738520"/>
            <a:ext cx="3165480" cy="3585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20920" y="34596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make vocal; utter; articulate; s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63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52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051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43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10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088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05280" y="2762280"/>
            <a:ext cx="2800440" cy="2800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232740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26000" y="270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b shaped; bul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32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1484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0400" y="198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11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111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22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88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2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3844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91040" y="2786040"/>
            <a:ext cx="2476440" cy="3309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49640" y="3459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dou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4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60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232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1028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36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7816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95720" y="2952720"/>
            <a:ext cx="3828960" cy="3828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1640" y="193680"/>
            <a:ext cx="69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orcerer believed by many Middle American Ind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e capable of transforming itself i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 fo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2520" y="1447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06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412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5212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496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8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390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057560" y="2738520"/>
            <a:ext cx="2727360" cy="3662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90920" y="6094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ous or earn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7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572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93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4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96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7640" y="209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086360" y="2809800"/>
            <a:ext cx="2340000" cy="2981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819520" y="533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arge port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50:27Z</dcterms:modified>
  <cp:revision>15</cp:revision>
  <dc:subject/>
  <dc:title>No Slide Title</dc:title>
</cp:coreProperties>
</file>